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dt" idx="26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1BF00-04C4-40A5-A863-D1A751878A23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FAF1F-F1C1-443F-9612-3C450D744C47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0" name=""/>
          <p:cNvSpPr/>
          <p:nvPr/>
        </p:nvSpPr>
        <p:spPr>
          <a:xfrm>
            <a:off x="75564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02F3F-BC67-47B2-A7ED-18543E44A81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"/>
          <p:cNvSpPr/>
          <p:nvPr/>
        </p:nvSpPr>
        <p:spPr>
          <a:xfrm>
            <a:off x="685800" y="4341960"/>
            <a:ext cx="54878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959BD-9B70-494C-8546-4AF5C02FFA9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"/>
          <p:cNvSpPr/>
          <p:nvPr/>
        </p:nvSpPr>
        <p:spPr>
          <a:xfrm>
            <a:off x="685800" y="4341960"/>
            <a:ext cx="54878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4CED3-D8B3-41D1-87DD-594EC839EEB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"/>
          <p:cNvSpPr/>
          <p:nvPr/>
        </p:nvSpPr>
        <p:spPr>
          <a:xfrm>
            <a:off x="685800" y="4341960"/>
            <a:ext cx="54878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758F8-206B-434D-97B8-30EB4F41AC9E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BFBBE-3EA0-482E-919D-8F9B7CEAD101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32F5B-311E-450A-B255-CAC17968D237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0441F-9335-45C6-AC90-4B2F4521013F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20931-5C70-4F6C-9A69-42A4DA6F021A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23723-F31D-436E-A1F9-52160555E026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66183-ED1C-4CE2-9760-1B7A84D2EE45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484CD-CE80-4AE9-AC72-778622AB777C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373FC-AA16-4E79-A9B2-9C4C70E99E34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3CA96-8DE5-44C3-8B7C-EF3AADE15CDA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4CC3C-7BEB-4541-9963-843B81BA8B7F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96835-5193-4DE7-B25F-78BE5BAAD1C2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BD6D4-8A57-40AE-8CD8-9833D946CA7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"/>
          <p:cNvSpPr/>
          <p:nvPr/>
        </p:nvSpPr>
        <p:spPr>
          <a:xfrm>
            <a:off x="685800" y="4341960"/>
            <a:ext cx="54878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DAB88-B75F-49D3-B669-B928BF09C4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1FAC6-BFEB-4CE7-AAE5-C116E119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C5C8D-B42F-4F14-B61D-353C7A72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9F0E2-69E7-4323-9B76-6DCAAB98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325D4-E9AD-423D-A7AD-DA3968E5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2E216-08D9-46C3-8BB6-2A55156A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4E099-A723-4E1A-9526-E4D4A01B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D4AA6-D5C3-4535-ACED-76AA0059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CA9D0-AA3F-4069-A312-ED3FDD7D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4AA33-7FE7-481A-A868-13416FB4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99073-AC27-4952-A1A3-A888A548A0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F8F885-7466-41E9-8B54-551C5A4C50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6568-CA63-4BF9-ACA3-98FBB555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2D64E7-13F6-4069-9128-AD38F791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970865-48D4-48C7-9A60-9040776C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E3A844-26F4-48B0-BB71-155E613A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C2B2F7-0C54-4DBA-8561-27319049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C76329-A7CB-494C-80C0-3B158C74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5F0DCA-4A25-4C44-8895-ECD4271F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A02187-889B-4D95-B9C7-D96AC1F4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BF6F42-C7BF-4133-A59E-9659BC0C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2A862-9515-4EE7-B7CA-B954D7B9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5FC4C0-9091-43D1-80AC-DA344429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5300A-049F-401D-9FE4-5A5F2BEF5F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9225F0-0736-45BD-9B5C-0139B48BBA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59B545-333D-4790-9B17-472F0647A6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3EFA54-C746-466D-B479-2582ED7C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7CDB5B-4A2B-4D3E-BF62-7A6CB137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017B35-C1D0-420C-B33B-ACC31565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46BBF6-E922-4488-9FA0-F4B412D4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E13948-48A4-4CB9-9209-9DBFC07F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0E5C1D-A1FA-4B59-9006-196F7D38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81C9C7-1729-488B-BABF-1E1D7B83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E4D58A-D7A7-43F4-9D79-8D5C51B0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EBAE3-9E47-4F80-B4AC-AF7EE73E6E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A2EB7D-2E9B-4B06-B12F-6A16E7BF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4EE78D-FBEC-4A2D-BF1D-4C54DB5C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3A47FD-61A8-47A3-AECF-FFD0F40789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33F55-2E05-4C9B-9929-B86622605B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CC126-54FC-444C-A54E-4A9A0091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987DC-22B7-4830-B9DA-9E86F3F0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CE07D-04AE-448E-A7B8-7D94EC66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F2D8F-72ED-4B50-9040-EA28D9A3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A8612-463C-494B-92DE-C47315D6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CA1D4-A749-4ACA-B487-20D20404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2A5C5-12E4-4691-A62B-9FF10A53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9C9C2-3D0B-4B49-A534-DF9514CC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B5056-FB06-4242-8DB3-75540A67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07533-3D7F-448B-8E0E-14B7C6CD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60444-6036-49DC-859B-7FC87FF9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20B6B-A2A4-488C-9CF4-040557BF69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F707F-D54E-40C5-AE65-EF6B096396D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E5EB9-670B-4B7A-87F9-CB037F4E944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47A57-0E52-4D50-BD55-BCE707867D8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1F97F-2A0F-4C7B-AA3B-92F827EEDBE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5645E-9DE3-47D0-B9EB-CA635942D3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E777A-D6CB-4591-B098-6B8FED8A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46EE9-7425-4B29-AF96-2A9ED990D15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DE826-8A03-4CDD-9F8D-DDDB8F7AB6A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EBA39-5EC0-47E1-92FE-E7CA4979027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D4930-3228-445F-AC31-C9A892FD02B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75D5C-4F7D-4F08-9373-995B73C9FCF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66C98-4B8A-419A-A56C-999070F7D05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8B887-BEB5-4981-9C06-859EDC9CC5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CFE8E-32DE-473C-9821-E559AF46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14455-6A50-4102-AB0B-C77ED273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B1D68-12FA-48FC-BA7C-11ABE279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89319-E046-48DC-8E17-45EEF135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E094D-A7C6-4CDD-9B10-7AAB7DD5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CE622-FB1E-4550-8092-725239F4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CEFC3-7691-43D3-9B6C-3FAB2EB6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1FF1A-008C-4F59-A0F1-D344CD98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3D0E2-7E2D-41A4-8869-9AE7BE5F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373AA-69E3-4DCC-97BD-12551C5913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E0E2-A6D6-4021-B016-46A5FE24D5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F6B4-5B6B-4202-8A4D-2FB4F059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AC39-F9FB-429A-BF04-808EA2AA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372D-BB01-488D-ABED-D0A9E437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4798-B5DD-4057-9558-71595BBE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666D3-6C73-4ED5-8021-A84C4599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13C4-43DD-4088-BF07-0B25C721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E3CC-2CAE-451F-934C-0E4C57DF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401F-B6A2-497B-9664-C6E50104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1326-B453-49DD-B026-374997B5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F4AB-6BC9-4056-9A62-FB96AAA6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3829-F27F-40E9-A8DB-147AFEDF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13FE-31B1-4332-9F40-12779CE9EA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E9372-9BE9-4B3E-9A6A-12E31F4F30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0D138-3AC6-44B0-B3C9-D5FB26B6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DD298-9CE6-444B-89FC-E5E3883A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F533B-1ED6-41F2-AAF7-D5B9FA66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357F2-19B7-4F6D-A079-E9E51FDB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09309-92C5-4B24-A8A4-FECAE516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97675-6EA9-43B3-BB5A-6B8EA793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F9617-3FFA-4EDE-8C35-BBBE9DB6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3C057-D0DA-4FBD-9D5A-2A8416C5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7748A-92E9-4AD7-999C-9CF18C89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9BA37-C388-4318-A763-7FE51E4D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DA5CE-A312-4FCD-9104-97393ACB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8FF78-13FF-4BFD-8E27-E04ADCC901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76C06C-94C2-4BDC-B5EC-08B5383A83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A1C72-0576-4B3E-9D75-EC5DEAEB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6F2E3B-A6BC-4E70-BA7C-81672703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F9EF62-FD9D-4EF9-AB1E-5FF8F056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F34B64-A74C-4DA4-8026-46940D8A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C8C3EC-9DB3-40D2-8B88-5E07DD16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5B1289-7086-4B41-B261-3C8ED61A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CA9FDC-561A-43A6-BE14-B70114D3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FD6E49-E319-432F-B61E-A1947A44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C93DAE-AD3B-4370-B059-3F08BADD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490BFF-25D1-4E59-9186-A3AD27BD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A3023F-07E2-429C-AB69-AE3ABE84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9BE5D-9043-43F2-B7E6-2F5B49CD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9F166B-8171-4325-B3DC-70E1BC2C94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16E68-53C8-487D-95A0-339C87657F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6A346-CE83-43FE-93C0-C8042732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D7BEC-1C23-49EC-9FE5-C8B640EB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57AA5-06DC-4B1F-893C-D25BAF09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2C43E-34D4-42AC-B8E3-1CBAB582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0CC4D-91FA-4777-91A8-83BB10BC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57CC2-5394-4F31-B1CC-BDB2D244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64D4C-0FED-4DB6-854F-7F890295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8574C-B557-4F03-90DB-602970BD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1608-7C8E-4D68-9F85-F5B55689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FB584-66AE-4B21-96ED-C5158625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D2BFB-C126-4C1A-9EB0-40D4C5D4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D1009-2EA8-4C7B-985A-77AAD15389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81D8B-EB54-4D18-BF36-976ADBD725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30FBC-FFD9-4253-9E74-5303D494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BA74E7-97EE-4D0F-9467-25DCDB6B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D2AADB-6D47-479A-B362-B99EC9A6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CA702-29F5-4124-90E7-3187F961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EE9B4A-BD53-4788-A7C1-A3EB77C6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3278F0-EC00-4E3E-88B6-88B65E25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BE68E-45FC-43A5-BB21-63A003A8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18622C-4C85-4914-B04D-DC7E60AD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8D3749-3DBC-46D2-9F45-F46A82AB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3D722B-600B-4166-A706-299CC6CD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A4911-A932-4969-A7CD-D6F25922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B57B60-823A-4476-A472-B41B040BB6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309027-65C8-4F31-8AA0-1C0F44AA32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81746C-946B-4629-B3D0-FB6A26C7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DA3091-A60E-49EC-96F6-805EF4CB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4AD996-0297-4C3A-BD92-3FA62B25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CFCF30-D2E6-4E77-95BA-77F8ED6D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98FA5-7F3C-4D6A-84F0-D49516FF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069654-F425-4376-AA5D-224FBE46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AC5BB9-05F2-4957-952A-332176D6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45F009-7D46-4990-94E9-0B36A6B2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6135B9-7B3C-4424-B6B9-4BFA68A1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7199FC-6231-49C8-BFCA-6D9B1C6D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B2EFAA-2D10-4B8B-9051-DDFB269F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83F77B-DBF5-4B14-B5F4-D82531E2E3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9A943-BA47-4E14-8523-C546B763CD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A5DBF-382F-47D9-BB80-3DF4472C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32872-8986-451E-8B79-EE3FD29A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14.03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348DD-E9E6-4CAB-9E56-24B6966A5677}" type="slidenum"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92440" y="4026960"/>
            <a:ext cx="548136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440" y="61272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792440" y="5366880"/>
            <a:ext cx="5481360" cy="83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55287-4BC6-48C0-A437-AB111A1F924C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A6D84-C04C-47A9-A212-EE2CC4457114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629400" y="274320"/>
            <a:ext cx="205272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274320"/>
            <a:ext cx="601488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sldNum" idx="2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8E260-B9F2-4175-9FAB-1281C5DE30A5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6720"/>
            <a:ext cx="82249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12732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Num" idx="25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9B76F-A3DD-42D4-826C-C00AA4DE8886}" type="slidenum">
              <a:rPr b="0" lang="et-E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77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240" y="3885840"/>
            <a:ext cx="639612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B436F-910A-4605-9ACA-30BB680D1E48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88E90-13F0-43AF-8A4A-1B146B846BDF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1800" y="4406400"/>
            <a:ext cx="776772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21800" y="-1211760"/>
            <a:ext cx="776772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F157F-595F-4ACA-B44E-B51608CEA83C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EE254-13AC-437D-B97B-24E9F55A4A21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-10242720"/>
            <a:ext cx="4035600" cy="124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50B4B-08E7-4E49-9E6A-9E2C91AF13A7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ED67D-DA57-435E-9D1E-7B7C44EA9DAC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dt" idx="1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Num" idx="1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9D88E-7034-404B-B038-4E22B873BF52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-1150920"/>
            <a:ext cx="300348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1434960"/>
            <a:ext cx="3003480" cy="319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FAAC0-8080-46E1-B04F-1CC18FBAE647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720720" y="900000"/>
            <a:ext cx="77644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Html annotation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39920" y="49068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anel Tamm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828720" y="830160"/>
            <a:ext cx="7672320" cy="75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Näide 2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Algse html tek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a class="tootaja_nimi"       href="http://www.mkm.ee/index.php?id=7187&amp;amp;tootaja=10000450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Taivo Kivistik&lt;/a&gt;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div class="tootaja_inf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asekantsler (õigusal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br&gt;Tel:  6256346 | E-pos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a class="kontakt_mail" href="javascript:void(0)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onclick="sendmail('taivo.kivistik', 'mkm.ee')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taivo.kivist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img src="majandus_juhtkond_files/e_post.gif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class="e_post_gif" border="0"&gt;mkm.ee&lt;/a&gt; &lt;br&gt;&lt;/div&gt;&lt;b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828720" y="830160"/>
            <a:ext cx="7672320" cy="75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Näide 2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asemel kasutatakse RDFa järgi annoteeritud htm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span about="#Taivo_Kivistik"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a class="tootaja_nimi"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rel="er:koduleht"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 href="http://www.mkm.ee/index.php?id=7187&amp;amp;tootaja=10000450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span property="er:nimi"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Taivo Kivistik&lt;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/span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/a&gt;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div class="tootaja_inf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span property="er:amet"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asekantsler (õigusala)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br&gt;Tel: 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span property="er:telefon"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6256346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/span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| E-pos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a class="kontakt_mail" href="javascript:void(0)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onclick="sendmail('taivo.kivistik', 'mkm.ee')"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property="er:email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content="taivo.kivistik@mkm.ee"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taivo.kivist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img src="majandus_juhtkond_files/e_post.gif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class="e_post_gif" border="0"&gt;mkm.ee&lt;/a&gt; &lt;br&gt;&lt;/div&gt;&lt;b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828720" y="830160"/>
            <a:ext cx="7672320" cy="67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RDFa konkreetsemal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  <a:ea typeface="Tahoma"/>
              </a:rPr>
              <a:t>Üldiselt peaks piisam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nei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  <a:ea typeface="Tahoma"/>
              </a:rPr>
              <a:t>st lihtsama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 RDFa võimalus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  <a:ea typeface="Tahoma"/>
              </a:rPr>
              <a:t>te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objekti id määramiseks:   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ab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#kohalik_i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lingi omaduse nime jaoks: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r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er:omad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üldiselt omaduse nime jaoks: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proper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er:omad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kui vaja (enamasti ei), tüüp: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xsd:tyybinimi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omaduse väärtus:                        tüüpiliselt htmls ole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omaduse väärtus alternatiivselt: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cont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väärt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Facebook &amp; RDFa: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Open Graph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s://developers.facebook.com/docs/opengraphprotocol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Sightsmap" property="og:title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http://www.sightsmap.com" property="og:url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Sightsmap" property="og:site_name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website" property="og:type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Sightseeing popularity heatmaps for the whole world, based on Panoramio photos, Wikipedia and FourSquare." property="og:description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http://www.sightsmap.com/wpng/siteimage_small_150.jpg" property="og:image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tanel.tammet" property="fb:admins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330325837036787" property="fb:app_id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Google &amp; RDFa: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ich snipp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http://support.google.com/webmasters/bin/topic.py?hl=en&amp;topic=1088472&amp;parent=21997&amp;ctx=top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Use eith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RDF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icro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icroform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Micro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body itemtype="http://schema.org/WebPage" itemscope="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Or a longer exampl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iv itemscope itemtype="http://data-vocabulary.org/Person"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name is &lt;span itemprop="name"&gt;Bob Smith&lt;/span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people call me &lt;span itemprop="nickname"&gt;Smithy&lt;/span&gt;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is my home pa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a href="http://www.example.com" itemprop="url"&gt;www.example.com&lt;/a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live in Albuquerque, NM and work as an &lt;span itemprop="title"&gt;engineer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&lt;span itemprop="affiliation"&gt;ACME Corp&lt;/span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Compare RDFa &amp; microda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RDF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iv xmlns:v="http://rdf.data-vocabulary.org/#" typeof="v:Person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name is &lt;span property="v:name"&gt;Bob Smith&lt;/span&gt;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people call me &lt;span property="v:nickname"&gt;Smithy&lt;/span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is my homepag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a href="http://www.example.com" rel="v:url"&gt;www.example.com&lt;/a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live in Albuquerque, NM and work as an &lt;span property="v:title"&gt;engineer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&lt;span property="v:affiliation"&gt;ACME Corp&lt;/span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Microdat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iv itemscope itemtype="http://data-vocabulary.org/Person"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name is &lt;span itemprop="name"&gt;Bob Smith&lt;/span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people call me &lt;span itemprop="nickname"&gt;Smithy&lt;/span&gt;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is my home pa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a href="http://www.example.com" itemprop="url"&gt;www.example.com&lt;/a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live in Albuquerque, NM and work as an &lt;span itemprop="title"&gt;engineer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&lt;span itemprop="affiliation"&gt;ACME Corp&lt;/span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Microform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Google example: data encoded in 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class=„...“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attributes, here concretely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 vcard format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div class="vcard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img class="photo" src="www.example.com/bobsmith.jpg" 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trong class="fn"&gt;Bob Smith&lt;/strong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title"&gt;Senior editor&lt;/span&gt; at &lt;span class="org"&gt;ACME Reviews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adr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street-address"&gt;200 Main St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locality"&gt;Desertville&lt;/span&gt;, &lt;span class="region"&gt;AZ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postal-code"&gt;12345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/div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chema.or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reated by: Google, Microsoft, and Yaho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oal: create a shared </a:t>
            </a: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markup vocabula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orted by major search engi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e also: http://www.sitemaps.org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mpare to: wordnet (a very different anima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e additionally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://googlewebmastercentral.blogspot.com/2012/12/introducing-data-highlighter-for-event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://googlewebmastercentral.blogspot.com/2012/07/introducing-structured-data-dashboard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ecture 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Html annot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SimSun"/>
              </a:rPr>
              <a:t>RDF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SimSun"/>
              </a:rPr>
              <a:t>Micro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SimSun"/>
              </a:rPr>
              <a:t>Facebook &amp; Goo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Schem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emantic“ html: two mean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First meaning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A semantic element clearly describes its meaning to both the browser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and the develop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Example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non-semant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 elements: &lt;div&gt; and &lt;span&gt; - Tells nothing about its cont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Example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semant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 elements: &lt;form&gt;, &lt;table&gt;, and &lt;img&gt; - Clearly defines its cont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ff0000"/>
                </a:solidFill>
                <a:latin typeface="Calibri"/>
              </a:rPr>
              <a:t>Second meaning (the subject of this lectur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SimSun"/>
              </a:rPr>
              <a:t>Encode program-processable data (a la name, age, cost, id etc) into html by a special </a:t>
            </a:r>
            <a:r>
              <a:rPr b="0" lang="et-EE" sz="2000" spc="-1" strike="noStrike">
                <a:solidFill>
                  <a:srgbClr val="ff0000"/>
                </a:solidFill>
                <a:latin typeface="Calibri"/>
                <a:ea typeface="SimSun"/>
              </a:rPr>
              <a:t>annotation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SimSun"/>
              </a:rPr>
              <a:t> mechanis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emantic html </a:t>
            </a:r>
            <a:r>
              <a:rPr b="0" lang="et-EE" sz="4400" spc="-1" strike="noStrike">
                <a:solidFill>
                  <a:srgbClr val="ff0000"/>
                </a:solidFill>
                <a:latin typeface="Calibri"/>
              </a:rPr>
              <a:t>anno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Calibri"/>
              </a:rPr>
              <a:t>Big question: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how to publish machine-processable data (as opposed to visual-oriented html) on the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Two main approach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Publish data in csv, xml, json, rdf or some such purely machine-oriented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Publish data inside human/visual-oriented 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Calibri"/>
              </a:rPr>
              <a:t>Semantic html annotations: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integrate machine-processable information into visual-design-oriented 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emantic html „standards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mportant format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ML5 </a:t>
            </a: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data attribu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RDFa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: W3C standard pushed by the semantic web commun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12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Facebook Open Graph protoc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12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Google Structured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12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Microdata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Microform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mportant ontologies/dictionari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schema.or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word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HTML5 data attribu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implest of all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Just add   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data-*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=“...“  attributes where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can be anything and ... can be anything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ik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&lt;div 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data-name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=“jaan“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data-age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=“20“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data-fun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=“not much“&gt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rdinary tex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&lt;/div&gt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an use in css selectors, javascript, external software etc exactly as you like: no real „pre-defined“ mean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HTML5 data attribu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set API exampl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Assuming element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&lt;div id="myDiv" data-name="myDiv" data-id="myId" data-my-custom-key="This is the value"&gt;&lt;/div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Get the el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var element = document.getElementById("myDiv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Get the 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var id = element.dataset.i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Retrieves "data-my-custom-key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var customKey = element.dataset.myCustomKe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Sets the value to something 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element.dataset.myCustomKey = "Some other value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Element becom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&lt;div id="myDiv" data-name="myDiv" data-id="myId" data-my-custom-key="Some other value"&gt;&lt;/div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W3C standard: RDF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a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://en.wikipedia.org/wiki/RDF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://www.w3.org/TR/xhtml-rdfa-primer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istor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008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RDFa 1.0 reached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3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ation stat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2012:   RDFa 1.1  does not require XML-specific namespace mechanis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828720" y="114480"/>
            <a:ext cx="7672320" cy="87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Näide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Algse html-tekst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&gt;Jaanus Kask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&gt;6024554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&gt;&lt;a href=”http://kask.googlepages.com”&gt;kliki siia&lt;/a&gt;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/t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asemel on html-tekstiks RDFa järgi annoteerit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r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about=”#jaanus_kask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property=”er:nimi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Jaanus Kask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property=”er:telefon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6024554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&gt;&lt;a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rel=”er:koduleht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href=”http://kask.googlepages.com”&gt;kliki siia&lt;/a&gt;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/t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/>
  <dcterms:modified xsi:type="dcterms:W3CDTF">2015-03-02T13:04:23Z</dcterms:modified>
  <cp:revision>138</cp:revision>
  <dc:subject/>
  <dc:title>RDF and schemaless databases: some notes</dc:title>
</cp:coreProperties>
</file>